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E9F6-C0A0-4F91-9C69-2D5F8E8EA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700-1800-4DFA-BA2B-00A6DB5A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5C1-3A97-4058-B006-6BAD95844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FC5C-9922-403D-BE3D-77C2585A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E366-FFA4-4F34-B0F5-C2871824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BD20-F25B-4C7E-B1DF-CFCE5FD7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0BC1-7A8B-43BE-908C-E110E28C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36BF-4459-4D9B-800F-AE718BF9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560-0E4A-4C4E-91E3-1BCD2F03F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E1DC-8965-48D3-921C-9D44867B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BB1C-9C9F-42D5-9821-A6D48889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D59B-3273-45C5-9325-D2FF629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38EE-3918-465A-A01F-F4CFAEB8BF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16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2533680" cy="2828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5960" y="4998960"/>
            <a:ext cx="478620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June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view Personnel Evaluation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 SUP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8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3:19:21Z</dcterms:created>
  <dc:creator>Administrator</dc:creator>
  <dc:description/>
  <dc:language>en-US</dc:language>
  <cp:lastModifiedBy>Administrator</cp:lastModifiedBy>
  <dcterms:modified xsi:type="dcterms:W3CDTF">2005-07-08T18:46:11Z</dcterms:modified>
  <cp:revision>7</cp:revision>
  <dc:subject/>
  <dc:title>Slide 1</dc:title>
</cp:coreProperties>
</file>